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5893-0FD8-4898-A6ED-8C7EB89F4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D0DC-E31B-4C86-BE04-F0500909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82E5-7700-407F-8A08-1F0B2A49D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7351-6D47-43B8-B4D7-0F2ABCD37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1675-7EAF-42E8-BE7E-813DD05B9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16062-F312-4A9D-AE58-D49AD65F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00F0-4679-48CB-BCB9-A4F3C620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39CF-589D-4796-B046-B5E928E3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4535F-E4C1-4292-8A6B-27EED031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6BDE-04E1-414F-B02B-46635ECD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2D10-2C8C-41A6-B719-A0CC888F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E58D-F25B-46D3-B68A-13B74462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6D46-7AD5-407A-9BA4-4C4A459B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11FD-D5A6-46D3-90BA-5B405C25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03AB-F0C6-4CB1-B9F3-28BEE88F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C28C-E5C4-46FE-ACD8-3F2F594FE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0AED-352A-42E4-88E4-BD68B65EB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50CE-0385-452E-8304-6E964DAA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3E24-468C-4B4B-A769-F053A3AF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28F0-D156-4794-8559-EC454AC9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5757-9262-467D-B5D4-21B46F8C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B2B8-EB2B-461B-A7AD-BA448918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B8F8-8B56-4441-A9D0-CE37678F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7027-F930-43DE-AF17-7216B81D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D41C-F9B3-48E8-B9D3-8E1071E0F23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FCA0-0917-45E3-8410-3170167727C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4"/>
          <p:cNvGraphicFramePr/>
          <p:nvPr/>
        </p:nvGraphicFramePr>
        <p:xfrm>
          <a:off x="831960" y="1577880"/>
          <a:ext cx="510516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577880"/>
                    <a:ext cx="510516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9 ГОД И ПЛАНОВЫЙ ПЕРИОД 2020-2021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3:46Z</dcterms:modified>
  <cp:revision>46</cp:revision>
  <dc:subject/>
  <dc:title>Структура собственных доходов на 2016 год бюджета Дальнереченского городского округа</dc:title>
</cp:coreProperties>
</file>